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DEE2-A520-4BC0-A07E-E746F6C3A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15B2-E8F2-45C3-9B0F-5966C4924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9FC6-0DB7-44FF-9F6C-08D57F85B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31F1-5590-4EF9-888C-F5697E0A5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1EB3-CB7D-494C-8C0A-4AD6CB436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15B4-D59C-4ED2-A40D-DE3B4CD0A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0A56-1BCC-4145-ADA4-9B4AF445E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1CD4-E243-4CC1-B06E-ED332375F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7B04-81F1-4B5C-BB88-1D75C4C35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72BF-0BAB-497E-A655-798A9487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472B-47C0-46E7-B610-501F4321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CA70-0188-446E-A76D-4A2077674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A4884-72AD-46D1-8E62-EF05F2D7807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7772400" cy="24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alibri"/>
              </a:rPr>
              <a:t>World progress 1970 - 2010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3640" y="5013000"/>
            <a:ext cx="828036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98989"/>
                </a:solidFill>
                <a:latin typeface="Calibri"/>
              </a:rPr>
              <a:t>NEW INTERNATIONALIST  EASIER ENGLISH IELTS / ADVANCED READY LESS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2987640" y="318960"/>
            <a:ext cx="6012000" cy="1511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44280" y="233280"/>
            <a:ext cx="279108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lesso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267920"/>
            <a:ext cx="82915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Reading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– about global issues and comparing simplified and original artic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Speaking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– discussing global issues – practice for the IELTS speaking ex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– practice interpreting graphs and writing 150 word summary for IELTS writing exa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How can we measure progres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94920" y="1699920"/>
            <a:ext cx="8497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) discuss, then read and make notes fro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ttp://eewiki.newint.org/index.php/Measuring_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) discuss again, then read the original articl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ttp://newint.org/features/2013/03/01/a-measure-of-progress-keynot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) now compare the two articles and note down some new vocabul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7020000" y="4962600"/>
            <a:ext cx="148572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37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ow look at the graphs on the infographic on the next slide (or on the link below, with zoom feature) – and discuss what they show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95280" y="4149720"/>
            <a:ext cx="8291520" cy="19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ttp://newint.org/features/2013/03/01/world-progress-the-facts-infographic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63360" y="271440"/>
            <a:ext cx="9047160" cy="63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alibri"/>
              </a:rPr>
              <a:t>Writing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57360"/>
            <a:ext cx="54100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ow choose one of the sections of the infographic and write (in pairs, or alone) a summary of what it shows – 150 wo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6032520" y="1557360"/>
            <a:ext cx="3048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26T12:06:45Z</dcterms:created>
  <dc:creator>Linda</dc:creator>
  <dc:description/>
  <dc:language>en-US</dc:language>
  <cp:lastModifiedBy>Linda Ruas</cp:lastModifiedBy>
  <dcterms:modified xsi:type="dcterms:W3CDTF">2013-08-01T16:00:02Z</dcterms:modified>
  <cp:revision>10</cp:revision>
  <dc:subject/>
  <dc:title>PowerPoint Presentation</dc:title>
</cp:coreProperties>
</file>